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E69A-546A-48DB-A02E-11DD14AE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296F-30E2-47A9-9BA8-D8F663D7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DD8C-9B06-47FE-AD7F-C5F7D099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7BA0-80D8-47F8-8C75-CD901991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11A-F02B-423B-9C78-E611C622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465-1A59-44C4-BA00-5BB36270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35A-1CC6-4B70-8537-3AB500F5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6B2-5DF8-436B-ABB8-012FA4F3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7682-0503-441A-AAC9-24517B11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0411-1AA8-4906-9225-565AC0CB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90F5-E028-4720-B92D-F2E81620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7D9-45B5-4140-B19B-4293FC9A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ADA6-ED95-4FBB-9136-69768327A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islav Su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brary for loading and saving video (audio)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arious libraries are used, depending on target 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mmon interface defined in a single base cl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AVFile 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‘s inherited class per every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hat can i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2997360"/>
          <a:ext cx="8352000" cy="3462120"/>
        </p:xfrm>
        <a:graphic>
          <a:graphicData uri="http://schemas.openxmlformats.org/drawingml/2006/table">
            <a:tbl>
              <a:tblPr/>
              <a:tblGrid>
                <a:gridCol w="2158920"/>
                <a:gridCol w="1728720"/>
                <a:gridCol w="1440000"/>
                <a:gridCol w="1440000"/>
                <a:gridCol w="158436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/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w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for 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VI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wmv, mpg, wav, mp3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S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 came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V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mpg, mov, flc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mp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F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 sequ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MP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95280" y="1268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RGB bit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indows DIB (BITMAPIN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gILib (ImageStr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ase clas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TAVFil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const char *FileName, int Mode, int Type, bool ThrowExceptions = tru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e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unsigned int Fr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TFrameInfo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TFrameInfo Inf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YTE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ITMAPINFO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IB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Struct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BYTE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ImageStruct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xample: copying video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IFile av1, av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sourc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1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get parameters from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File::TFrameInfo FrameInfo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et parameters to 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FrameInfo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2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Wr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proces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Pos, Len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Lengt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 ((Pos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Po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) &lt; Len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ageStruct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apply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Imag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close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06:58:17Z</dcterms:created>
  <dc:creator>Stanislav Sumec</dc:creator>
  <dc:description/>
  <dc:language>en-US</dc:language>
  <cp:lastModifiedBy>Lukáš Polok</cp:lastModifiedBy>
  <dcterms:modified xsi:type="dcterms:W3CDTF">2009-12-15T19:59:17Z</dcterms:modified>
  <cp:revision>23</cp:revision>
  <dc:subject/>
  <dc:title>Snímek 1</dc:title>
</cp:coreProperties>
</file>