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A06-23FB-4755-BD41-42C41204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C7C-2134-468B-9FDB-311B116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5E0-7A5F-45C9-A7E9-5E65B706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C45-0164-4720-B94F-54E1894B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6E7-42F4-4F61-809C-1530DFE6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240-538D-453D-8B83-5D6CF749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964-2581-4E23-9038-4224DDC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FE0-17FD-40C5-B786-32B6DAB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A1A-F84B-4862-9C94-C84E782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514-3A9E-4D1A-9961-4D4FF82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85D-F082-4A40-B33A-8CF93BD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91B-CA43-47B7-B478-B4C6C99E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7D8-1CC1-4FD2-804A-AC95308FB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islav Su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o j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nihovna pro načítání a ukládání video (audio) soubor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y různé knihovny dostupné v příslušném 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ečné rozhraní definované v bázové tříd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AVFile 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každou knihovnu vytvořena odvozená tří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um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2997360"/>
          <a:ext cx="8351640" cy="3462120"/>
        </p:xfrm>
        <a:graphic>
          <a:graphicData uri="http://schemas.openxmlformats.org/drawingml/2006/table">
            <a:tbl>
              <a:tblPr/>
              <a:tblGrid>
                <a:gridCol w="2158920"/>
                <a:gridCol w="1728720"/>
                <a:gridCol w="1440000"/>
                <a:gridCol w="1440000"/>
                <a:gridCol w="158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y soub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hov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ení/Záp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w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for 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VI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wmv, mpg, wav, mp3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 kam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V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asf, mpg, mov, flc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m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F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 sekv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MP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95280" y="12682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RGB bitm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 DIB (BITMAPINF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Lib (ImageStr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ázová tří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TAVFil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const char *FileName, int Mode, int Type, bool ThrowExceptions = tru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e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unsigned int Fr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TFrameInfo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(TFrameInfo 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YTE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BITMAPINFO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IB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Struct*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BYTE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virtual void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(ImageStruct *Buff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 kopie video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IFile av1, av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sourc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1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t parameters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VFile::TFrameInfo FrameInfo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 parameters to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Fram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rameInfo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pen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rgv[2]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mWr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AVFile::otVide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proce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os, Len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Lengt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 ((Pos 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VideoP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) &lt; Le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Struct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ourier New"/>
              </a:rPr>
              <a:t>Imag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 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Ge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cs-CZ" sz="1200" spc="-1" strike="noStrike">
                <a:solidFill>
                  <a:srgbClr val="000000"/>
                </a:solidFill>
                <a:latin typeface="Courier New"/>
              </a:rPr>
              <a:t>apply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LPutFr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Im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lose source and destination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1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2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6:58:17Z</dcterms:created>
  <dc:creator>Stanislav Sumec</dc:creator>
  <dc:description/>
  <dc:language>en-US</dc:language>
  <cp:lastModifiedBy>Stanislav Sumec</cp:lastModifiedBy>
  <dcterms:modified xsi:type="dcterms:W3CDTF">2006-10-06T07:41:25Z</dcterms:modified>
  <cp:revision>22</cp:revision>
  <dc:subject/>
  <dc:title>Snímek 1</dc:title>
</cp:coreProperties>
</file>